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3.pct" ContentType="image/x-pict"/>
  <Override PartName="/ppt/media/image13.pct" ContentType="image/x-pict"/>
  <Override PartName="/ppt/media/image4.jpeg" ContentType="image/jpeg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2.pct" ContentType="image/x-pict"/>
  <Override PartName="/ppt/media/image12.jpeg" ContentType="image/jpeg"/>
  <Override PartName="/ppt/media/image5.jpeg" ContentType="image/jpeg"/>
  <Override PartName="/ppt/media/image6.pct" ContentType="image/x-pict"/>
  <Override PartName="/ppt/media/image11.pct" ContentType="image/x-pict"/>
  <Override PartName="/ppt/media/image7.png" ContentType="image/png"/>
  <Override PartName="/ppt/media/image10.png" ContentType="image/png"/>
  <Override PartName="/ppt/media/image8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B926-B312-40BA-86EE-7230B674C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job.  You have greatest team…Congrats on Kiva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s - asking great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understand where your projects fit into larger picture of global pov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960, no expansion possible in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given chance to develop own leaders, never had enough peace to build a 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ctations - running 200 years behind (think just 50 years a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birth rates - overpopulation/not enough resources to go a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ies die because.  Preventable diseases. Short life spans.  People dying in their prime. Lots of orph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education; can’t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d, crowded/Ethnic groups with 120 diff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ers in, home to Darfur refugee c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ce = lack of it/confl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f war - Devastation, death, disease,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war tends to breed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4 of all LDCs are or have been at war.  15 times more likely to be in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s =gover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te - voting and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es give you a say - current news/bail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t inst- tax, run el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serves needs of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involved in Mic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macro for systems to support recip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ls in the tool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 types of aid: cash, projects, training. Aid deb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D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ion of eff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ent, stake, leverage, participation, attract foreign at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billion.West,BRICs,Asia, Africa, Latin Amer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ions - US has 300 million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s - American Dream/opport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 in rich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yond volunteer - work for orgs, put minds and your excellent MCDS education to these big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to US dol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 = 111 Sri Lankan rupees or 49 Liberian dol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g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you what being poor in a poor country looks like, Even if you work really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weaver in Africa - w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- travel to get it, pay, conflict/ Food/hu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- firewood, pollution, conservation,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ads - get goods to mar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 - opportunity, child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itation - diseases frm contam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 - also malaria, typhoid, measles - diseases that don’t exist in developed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care - sickness, maternal mortality, long trips to doc, orph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- destruction, security, death, armies steal supp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 - little rainfall, seeds, arable land - no fertilizers, irrigation, poor crops, hu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country needs help.  But why is it poor in the first plac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beyond their contro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verty becomes a cycle. Start disadvantaged and this tends to create more dis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ugh to tell what is a symptom of poverty and what is a 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 v Chad - lots of examples - no need to remember particu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= geography - you can’t control this - lu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you want to look at 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 to Sea - 2 1/2 v.land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aking of neighbors 2 v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 (US fertile, temperate, seasons v. Sahel- dese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aria, tropical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 (oi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 = history- things they can’t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trade - remove millions in pr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30A8-D8ED-4879-A5EB-2EF34A33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9BE7-DB90-4B58-B46F-5E3CA56C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BB79-2B30-415B-8208-B9ADB94A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92E2-F39F-4DD2-B2C3-E08F569EF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56E5-0522-4464-8805-F7B31F0E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EABD-17D5-4089-B48B-C8F3460C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4882-4223-4414-86FE-9DD1FE16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C3A9-A9C4-4964-8507-18DFBBE8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5162-CB68-47C3-B5DE-055D25C1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1F16-3B3D-41BB-805C-D46A9E6F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0091-8388-4F3C-842D-09755526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39DC-FE7B-4CD1-AD77-B4C8586A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1130-E1B8-4EA9-82FE-FF70486BF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Pove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are the world’s poorest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life like in a poor count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countries po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help poor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30720" y="523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40120" y="4572000"/>
            <a:ext cx="14637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ed St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tish col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17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ce and expansion across conti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l War 186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Depression 193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power 1940s-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nch col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19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l Wars 1960-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sions by Libya, Su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rebell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ment in neighbors’ civil w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630360" cy="446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791320" y="1981080"/>
            <a:ext cx="58572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Countries are Poor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healt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y edu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they l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ethnic grou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105520" y="1863720"/>
            <a:ext cx="37116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ed St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hildren per wo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out of 1000 babies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expectancy 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% of adults can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ed 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op immigrant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children per wo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of 1000 babies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expectancy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% of adults can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d vill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op refugee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630360" cy="446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791320" y="1981080"/>
            <a:ext cx="58572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Countries are Poor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e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s with other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the w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vil w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581280" y="3429000"/>
            <a:ext cx="233064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wars on US mainland (1776, 18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anger of invasion by 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s keep other enemies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 civil w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with 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ll-over from neighbors’ wars (Darfu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00400" y="1905120"/>
            <a:ext cx="630360" cy="446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943600" y="1981080"/>
            <a:ext cx="58572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Countries are Poor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oli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citizens and leaders educ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citizens participate in govern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people know what leaders are do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communities conn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 too stro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 too wea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72200" y="3733920"/>
            <a:ext cx="1143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ed Stat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ly all voters lit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is stable and 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4 voters lit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ctato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spread out with few roads, ph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uption from oil w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 in constant danger of military c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867280" y="1905120"/>
            <a:ext cx="586080" cy="390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895480" y="1905120"/>
            <a:ext cx="630360" cy="4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lp for the Poo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Development Assistanc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y to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bodies (United N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nerships to help poor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 to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 helping p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 helping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657600" y="4800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Development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fi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cekee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 change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380988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fi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helping individuals help their countries, to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678120" y="3429000"/>
            <a:ext cx="178596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The World Today: </a:t>
            </a:r>
            <a:br>
              <a:rPr sz="3200"/>
            </a:b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Haves and Have-N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billion hav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at they ne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long quality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billion have th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hope of getting what they n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billion hav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ery little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Handwriting"/>
              </a:rPr>
              <a:t>Being poor in a rich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Handwriting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Lucida Handwriting"/>
              </a:rPr>
              <a:t>is different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Handwriting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Lucida Handwriting"/>
              </a:rPr>
              <a:t>being poor in a poor cou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56360" y="773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5880" y="152280"/>
            <a:ext cx="129852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You Get Invol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 others about pov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an advo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nteer with organizations that work in poor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ht global wa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800600" y="1976400"/>
            <a:ext cx="312588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ttom Bill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 on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$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 da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f them on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less than $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Handwriting"/>
              </a:rPr>
              <a:t>(the cost of an  </a:t>
            </a:r>
            <a:r>
              <a:rPr b="0" lang="en-US" sz="1800" spc="-1" strike="noStrike">
                <a:solidFill>
                  <a:srgbClr val="ff8000"/>
                </a:solidFill>
                <a:latin typeface="Times New Roman"/>
              </a:rPr>
              <a:t>iTunes</a:t>
            </a:r>
            <a:r>
              <a:rPr b="0" lang="en-US" sz="1800" spc="-1" strike="noStrike">
                <a:solidFill>
                  <a:srgbClr val="ff8000"/>
                </a:solidFill>
                <a:latin typeface="Lucida Handwriting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Handwriting"/>
              </a:rPr>
              <a:t>so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round $7 per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Close to $30 per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ess than $400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32280" y="5334120"/>
            <a:ext cx="1279440" cy="11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People in Poor Countri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Electr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R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ealth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these affect a person trying to start a business with a microlo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y Are Countries Poor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Five 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Poverty is a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ndividuals and for countri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hat make you poor in the first place create other disadvantages that keep you in pover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Countries are Poor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st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ghb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0" y="1736640"/>
            <a:ext cx="33829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3208320" cy="4243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267080" y="1752480"/>
            <a:ext cx="43880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Countries are Poor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 of slave tra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al his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re borders draw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id independence co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ce to develop own lead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245916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5:16:23Z</dcterms:created>
  <dc:creator>Cate Biggs</dc:creator>
  <dc:description/>
  <dc:language>en-US</dc:language>
  <cp:lastModifiedBy>Cate Biggs</cp:lastModifiedBy>
  <dcterms:modified xsi:type="dcterms:W3CDTF">2009-03-20T16:33:35Z</dcterms:modified>
  <cp:revision>14</cp:revision>
  <dc:subject/>
  <dc:title>Global Poverty</dc:title>
</cp:coreProperties>
</file>