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3.pct" ContentType="image/x-pict"/>
  <Override PartName="/ppt/media/image13.pct" ContentType="image/x-pict"/>
  <Override PartName="/ppt/media/image4.jpeg" ContentType="image/jpeg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12.jpeg" ContentType="image/jpeg"/>
  <Override PartName="/ppt/media/image5.jpeg" ContentType="image/jpeg"/>
  <Override PartName="/ppt/media/image6.pct" ContentType="image/x-pict"/>
  <Override PartName="/ppt/media/image11.pct" ContentType="image/x-pict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F977-F34F-4E1E-946A-5356AE948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job.  You have greatest team…Congrats on Kiva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 - asking great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understand where your projects fit into larger picture of global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960, no expansion possible in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given chance to develop own leaders, never had enough peace to build a 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ations - running 200 years behind (think just 50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birth rates - overpopulation/not enough resources to go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die because.  Preventable diseases. Short life spans.  People dying in their prime. Lots of orph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education; can’t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d, crowded/Ethnic groups with 120 diff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rs in, home to Darfur refugee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ce = lack of it/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war - Devastation, death, disease,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war tends to breed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4 of all LDCs are or have been at war.  15 times more likely to be in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s =gover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 - voting and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es give you a say - current news/bail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t inst- tax, run e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serves needs of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involved in Mic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macro for systems to support recip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 in the tool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 types of aid: cash, projects, training. Aid deb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D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ion of eff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ent, stake, leverage, participation, attract foreign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billion.West,BRICs,Asia, Africa, Latin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ons - US has 300 milli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 - American Dream/opport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 in rich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yond volunteer - work for orgs, put minds and your excellent MCDS education to these big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o US dol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 = 111 Sri Lankan rupees or 49 Liberian dol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g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you what being poor in a poor country looks like, Even if you work really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weaver in Africa - 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- travel to get it, pay, conflict/ Food/hu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- firewood, pollution, conservation,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s - get goods to mar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- opportunity, child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itation - diseases frm conta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- also malaria, typhoid, measles - diseases that don’t exist in developed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are - sickness, maternal mortality, long trips to doc, orph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- destruction, security, death, armies steal sup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 - little rainfall, seeds, arable land - no fertilizers, irrigation, poor crops, hu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country needs help.  But why is it poor in the first plac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eyond their contro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verty becomes a cycle. Start disadvantaged and this tends to create more dis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gh to tell what is a symptom of poverty and what is a 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v Chad - lots of examples - no need to remember particu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= geography - you can’t control this - lu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you want to look at 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to Sea - 2 1/2 v.land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aking of neighbors 2 v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 (US fertile, temperate, seasons v. Sahel- dese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, tropical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 (oi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 = history- things they can’t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trade - remove millions in p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0DEE-5574-407A-9A69-2E4B11ED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D75A-CC04-4B28-8246-78E0734A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543-4081-4F9C-91AE-8389C99D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EC73-ECC0-4B27-B6B8-3BEDBBE1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81A-13EB-4308-9314-19942013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1DE-941F-4BEC-AB90-C8DE514A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D7F8-0E4C-42F1-B4BE-B5B412A0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636-CF87-401F-8069-4077A6FA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9E85-0FF6-40FF-8396-82A48EAF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0786-BCFC-4ED1-BA60-0FD7E8DE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3B2F-A58C-447C-8D56-21D5DA66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4397-822C-450D-96B5-12565526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A796-7C28-47B1-8CBE-06003D0D8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Pov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are the world’s poorest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life like in a poor coun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countries po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help poor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30720" y="523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40120" y="4572000"/>
            <a:ext cx="1463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St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ish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17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ce and expansion across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War 186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Depression 193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power 1940s-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nch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Wars 1960-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sions by Libya, Su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rebell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ment in neighbors’ civil w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630360" cy="446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791320" y="1981080"/>
            <a:ext cx="5857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Countries are Poor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ealt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y edu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they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ethnic grou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105520" y="1863720"/>
            <a:ext cx="3711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St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hildren per 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out of 1000 babies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expectancy 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% of adults can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ed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p immigrant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children per 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of 1000 babies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expectancy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of adults can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d vil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p refuge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630360" cy="446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91320" y="1981080"/>
            <a:ext cx="5857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Countries are Poor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e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 with other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 w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w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81280" y="3429000"/>
            <a:ext cx="23306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wars on US mainland (1776, 18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anger of invasion by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s keep other enemie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civil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with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ll-over from neighbors’ wars (Darf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630360" cy="446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943600" y="1981080"/>
            <a:ext cx="5857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Countries are Poor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li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itizens and leaders educ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citizens participate in gover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people know what leaders are d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ommunities conn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too st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too wea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1143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Stat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 all voters lit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is stable and 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4 voters lit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tat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spread out with few roads, ph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uption from oil w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 in constant danger of military c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586080" cy="390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895480" y="1905120"/>
            <a:ext cx="63036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lp for the Po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Development Assistanc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 to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bodies (United N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ships to help poo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to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 helping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help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5760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Development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f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c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380988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f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helping individuals help their countries, to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678120" y="3429000"/>
            <a:ext cx="17859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e World Today: </a:t>
            </a:r>
            <a:br>
              <a:rPr sz="3200"/>
            </a:b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Haves and Have-N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hav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they n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long quality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illion have th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hope of getting what they n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hav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ery littl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Handwriting"/>
              </a:rPr>
              <a:t>Being poor in a rich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Handwriting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Lucida Handwriting"/>
              </a:rPr>
              <a:t>is different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Handwriting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Lucida Handwriting"/>
              </a:rPr>
              <a:t>being poor in a poor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56360" y="773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5880" y="152280"/>
            <a:ext cx="12985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You Get Invol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 others about 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an advo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nteer with organizations that work in poor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ht global wa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00600" y="1976400"/>
            <a:ext cx="31258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ttom Bill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 o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$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da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m o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less than $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(the cost of an  </a:t>
            </a:r>
            <a:r>
              <a:rPr b="0" lang="en-US" sz="1800" spc="-1" strike="noStrike">
                <a:solidFill>
                  <a:srgbClr val="ff8000"/>
                </a:solidFill>
                <a:latin typeface="Times New Roman"/>
              </a:rPr>
              <a:t>iTunes</a:t>
            </a:r>
            <a:r>
              <a:rPr b="0" lang="en-US" sz="1800" spc="-1" strike="noStrike">
                <a:solidFill>
                  <a:srgbClr val="ff8000"/>
                </a:solidFill>
                <a:latin typeface="Lucida Handwriting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so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round $7 per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Close to $30 per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ss than $400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32280" y="5334120"/>
            <a:ext cx="127944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People in Poor Countri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se affect a person trying to start a business with a microlo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 Are Countries Poor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Five 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Poverty is a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dividuals and for countr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hat make you poor in the first place create other disadvantages that keep you in pove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Countries are Poor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st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0" y="1736640"/>
            <a:ext cx="33829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208320" cy="4243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43880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Countries are Poor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of slave tr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al his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re borders dra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id independence c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ce to develop own lea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245916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5:16:23Z</dcterms:created>
  <dc:creator>Cate Biggs</dc:creator>
  <dc:description/>
  <dc:language>en-US</dc:language>
  <cp:lastModifiedBy>Cate Biggs</cp:lastModifiedBy>
  <dcterms:modified xsi:type="dcterms:W3CDTF">2009-03-20T16:33:35Z</dcterms:modified>
  <cp:revision>14</cp:revision>
  <dc:subject/>
  <dc:title>Global Poverty</dc:title>
</cp:coreProperties>
</file>