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13.pct" ContentType="image/x-pict"/>
  <Override PartName="/ppt/media/image4.jpeg" ContentType="image/jpeg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12.jpeg" ContentType="image/jpeg"/>
  <Override PartName="/ppt/media/image5.jpeg" ContentType="image/jpeg"/>
  <Override PartName="/ppt/media/image6.pct" ContentType="image/x-pict"/>
  <Override PartName="/ppt/media/image11.pct" ContentType="image/x-pict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386A-EA57-4531-9353-6944DCD7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job.  You have greatest team…Congrats on Kiva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sking great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understand where your projects fit into larger picture of global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60, no expansion possible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given chance to develop own leaders, never had enough peace to build a 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- running 200 years behind (think just 50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irth rates - overpopulation/not enough resources to go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die because.  Preventable diseases. Short life spans.  People dying in their prime. Lots of orph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education; can’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, crowded/Ethnic groups with 120 diff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rs in, home to Darfur refugee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= lack of it/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war - Devastation, death, disease,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r tends to breed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4 of all LDCs are or have been at war.  15 times more likely to be in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s =gover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- voting and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es give you a say - current news/bail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 inst- tax, run e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serves needs of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volved in Mic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macro for systems to support recip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 in the tool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types of aid: cash, projects, training. Aid deb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ent, stake, leverage, participation, attract foreign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billion.West,BRICs,Asia, Africa, Lati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ons - US has 30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 - American Dream/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 in rich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yond volunteer - work for orgs, put minds and your excellent MCDS education to these big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US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 = 111 Sri Lankan rupees or 49 Liberian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 what being poor in a poor country looks like, Even if you work really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weaver in Africa - 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- travel to get it, pay, conflict/ Food/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firewood, pollution, conservation,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s - get goods to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- opportunity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itation - diseases frm conta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- also malaria, typhoid, measles - diseases that don’t exist in developed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- sickness, maternal mortality, long trips to doc, orph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- destruction, security, death, armies steal su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- little rainfall, seeds, arable land - no fertilizers, irrigation, poor crops, hu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country needs help.  But why is it poor in the first pla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eyond their contro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verty becomes a cycle. Start disadvantaged and this tends to create more dis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to tell what is a symptom of poverty and what is a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v Chad - lots of examples - no need to remember particu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= geography - you can’t control this - 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you want to look at 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Sea - 2 1/2 v.land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ing of neighbors 2 v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 (US fertile, temperate, seasons v. Sahel- dese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, tropical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 (o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 = history- things they can’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trade - remove millions in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585-CA46-45B1-B273-9F99A3F1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99C-94A7-4D1B-953A-03145D12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F20-A387-4A24-A1B7-687EAECE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353-6A4B-4864-B5A8-286A04E3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5BC-82F9-4236-9022-F454F295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C66-3D1A-44CA-BE34-D5A68317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FF6-DE25-4E51-8563-47E0F4A2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571-6EA1-4032-B102-078D9302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4D5-95CC-45AB-8466-6BC466CC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E3A-9188-4A88-A455-760862A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633-6E95-40F7-A3A2-42B95B7D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5EE-FAAB-4465-A759-C353F79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2688-19F6-4784-82CC-B45BDFA54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world’s poores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life like in a poo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countries p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 poo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0720" y="523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40120" y="4572000"/>
            <a:ext cx="1463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7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and expansion across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Depression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power 1940s-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s 1960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sions by Libya, Su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rebel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ment in neighbors’ civil w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ealt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edu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ethnic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05520" y="1863720"/>
            <a:ext cx="3711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ut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immigrant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hildren p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of 1000 babi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expectancy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of adults ca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p refuge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with other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w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330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wars on US mainland (1776, 18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nger of invasion by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 keep other enemi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ll-over from neighbors’ wars (Darf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630360" cy="44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5857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li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itizens and leaders edu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citizens participate in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know what leaders ar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munitie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st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too w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143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all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s stable and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4 voters 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pread out with few roads,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 from oil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in constant danger of military 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586080" cy="390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6303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 for the Po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Development Assistan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to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bodies (United N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 to help po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helping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help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evelopmen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8098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helping individuals help their countries,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78120" y="3429000"/>
            <a:ext cx="17859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e World Today: 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ves and Have-N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they 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long qualit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llion have th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ope of getting what they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hav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ry littl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rich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is differen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Lucida Handwriting"/>
              </a:rPr>
              <a:t>being poor in a poor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77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1298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Get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others about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n advo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eer with organizations that work in poo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 global w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00600" y="1976400"/>
            <a:ext cx="3125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Bill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ss than $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(the cost of an  </a:t>
            </a:r>
            <a:r>
              <a:rPr b="0" lang="en-US" sz="1800" spc="-1" strike="noStrike">
                <a:solidFill>
                  <a:srgbClr val="ff8000"/>
                </a:solidFill>
                <a:latin typeface="Times New Roman"/>
              </a:rPr>
              <a:t>iTunes</a:t>
            </a:r>
            <a:r>
              <a:rPr b="0" lang="en-US" sz="1800" spc="-1" strike="noStrike">
                <a:solidFill>
                  <a:srgbClr val="ff8000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so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round $7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Close to $3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ss than $4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2280" y="5334120"/>
            <a:ext cx="12794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People in Poor Countr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se affect a person trying to start a business with a microlo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Are Countries Poor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Five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overty is a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dividuals and for count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hat make you poor in the first place create other disadvantages that keep you in pov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173664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208320" cy="424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388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Countries are Poor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slave tr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hi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borders dra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independence 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to develop own l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459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6:23Z</dcterms:created>
  <dc:creator>Cate Biggs</dc:creator>
  <dc:description/>
  <dc:language>en-US</dc:language>
  <cp:lastModifiedBy>Cate Biggs</cp:lastModifiedBy>
  <dcterms:modified xsi:type="dcterms:W3CDTF">2009-03-20T16:33:35Z</dcterms:modified>
  <cp:revision>14</cp:revision>
  <dc:subject/>
  <dc:title>Global Poverty</dc:title>
</cp:coreProperties>
</file>